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20C-E77B-4EFF-8286-5E953253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D0CA-EB36-489E-8511-B6A7EC0C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1E23-68B7-47E2-A7AC-1C5CA5EE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95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923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5092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6AD-A068-4582-B9FF-4C6CD161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F4E4-538A-4205-95EA-E354AE9F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7CAD-2EB5-4566-8287-7ED75D25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5368-20AB-4D26-AB31-29282A07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BD777-7B95-4D02-85F8-3185F351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081D-6EB5-4374-80D1-95D7490F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BCD7-A752-4E92-B494-DD0036C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4442-443B-4B0E-9675-E1BF4B2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57A-11BD-4D96-A38D-CA6683D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034F-7F3F-476C-AFBE-71091B5C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C060F-9492-4101-9C0E-3C0ED801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9484-66D2-4B34-A1B0-E24A4CF5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4135-C9C9-4185-AB8C-F1231CE02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95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92328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50920" y="47710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8DCE-98F4-4F03-954F-261C78A4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D5FF-D1A3-4B49-8B02-291034C2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D6F8-32AD-40DB-A5C7-BCECD44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9FE-9701-4DDD-B835-9EC86BB1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52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B8F-12A0-44A8-944C-35E68A35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978F-C6AF-44BA-A99D-088509F0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77960" y="47710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4A1-F831-426F-B790-52787B9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5280" y="47710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86B5-FB41-4A59-BDE6-A55BE10A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539720" cy="6856560"/>
            <a:chOff x="0" y="0"/>
            <a:chExt cx="153972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21932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2193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380880"/>
              <a:ext cx="914400" cy="327672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1523880"/>
              <a:ext cx="1219320" cy="838440"/>
            </a:xfrm>
            <a:prstGeom prst="rect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62120" y="685800"/>
              <a:ext cx="228600" cy="6019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480060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5105520"/>
              <a:ext cx="838080" cy="15228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5410080"/>
              <a:ext cx="838080" cy="152640"/>
            </a:xfrm>
            <a:prstGeom prst="rect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>
              <a:off x="1219320" y="3586320"/>
              <a:ext cx="320400" cy="1831680"/>
            </a:xfrm>
            <a:prstGeom prst="pie">
              <a:avLst/>
            </a:prstGeom>
            <a:solidFill>
              <a:srgbClr val="5e6fd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D8F0-6843-4575-88A7-F7C03D9BB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3" name="Group 3"/>
            <p:cNvGrpSpPr/>
            <p:nvPr/>
          </p:nvGrpSpPr>
          <p:grpSpPr>
            <a:xfrm>
              <a:off x="-1402200" y="-608760"/>
              <a:ext cx="9065520" cy="8964720"/>
              <a:chOff x="-1402200" y="-608760"/>
              <a:chExt cx="9065520" cy="8964720"/>
            </a:xfrm>
          </p:grpSpPr>
          <p:grpSp>
            <p:nvGrpSpPr>
              <p:cNvPr id="54" name="Group 4"/>
              <p:cNvGrpSpPr/>
              <p:nvPr/>
            </p:nvGrpSpPr>
            <p:grpSpPr>
              <a:xfrm>
                <a:off x="-1402200" y="-608760"/>
                <a:ext cx="9065520" cy="8964720"/>
                <a:chOff x="-1402200" y="-608760"/>
                <a:chExt cx="9065520" cy="8964720"/>
              </a:xfrm>
            </p:grpSpPr>
            <p:sp>
              <p:nvSpPr>
                <p:cNvPr id="55" name="AutoShape 5"/>
                <p:cNvSpPr/>
                <p:nvPr/>
              </p:nvSpPr>
              <p:spPr>
                <a:xfrm flipH="1" rot="12360000">
                  <a:off x="-294840" y="557280"/>
                  <a:ext cx="6851520" cy="663228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AutoShape 6"/>
                <p:cNvSpPr/>
                <p:nvPr/>
              </p:nvSpPr>
              <p:spPr>
                <a:xfrm flipH="1" rot="12360000">
                  <a:off x="1101600" y="190944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Arc 11"/>
                <p:cNvSpPr/>
                <p:nvPr/>
              </p:nvSpPr>
              <p:spPr>
                <a:xfrm rot="10485000">
                  <a:off x="2004120" y="3556800"/>
                  <a:ext cx="1148040" cy="1359000"/>
                </a:xfrm>
                <a:prstGeom prst="pie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prstGeom prst="pie">
                  <a:avLst/>
                </a:pr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prstGeom prst="pie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4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105D-3604-40A1-89AD-72E789BB5EC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hapter 22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PROGRESSIVE ERA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181120" y="3048120"/>
            <a:ext cx="39625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0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rrigation and Conservation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in the West to 1917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0" name="Picture 4" descr="DIVI7233469"/>
          <p:cNvPicPr/>
          <p:nvPr/>
        </p:nvPicPr>
        <p:blipFill>
          <a:blip r:embed="rId1"/>
          <a:stretch/>
        </p:blipFill>
        <p:spPr>
          <a:xfrm>
            <a:off x="3505320" y="1905120"/>
            <a:ext cx="32828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omen and Children at Work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resisted ideals of domesticity to enter work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’s labor unions defended rights of women, child labo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eppard-Towner Act 1921: Protected health of pregnant workers and their i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Niagara Movement and the NAACP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frican Americans were poor sharecroppers, segregated by Jim Crow Laws and at mercy of violent white mo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 workers gained least from prospe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05: W.E.B. DuBois, others rejected accommodation to racist soci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Niagara Movement" demands immediate respect for equal rights of a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, Urban League, advocate  African American r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"I Hear the Whistle": Immigrants in the Labor Forc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1–1920: Fresh influx of Europeans, Mexicans, Asians to labor fo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English speakers considered a soci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 to "Americanize"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igration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ese immigration banned in 19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eracy tests used against other immigra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mmigration to the United States, 1900–1920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(by area of origin)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6" name="Picture 6" descr="DIVI463"/>
          <p:cNvPicPr/>
          <p:nvPr/>
        </p:nvPicPr>
        <p:blipFill>
          <a:blip r:embed="rId1"/>
          <a:stretch/>
        </p:blipFill>
        <p:spPr>
          <a:xfrm>
            <a:off x="3352680" y="2362320"/>
            <a:ext cx="356076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exican Immigration to the United States, 1900–1920 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0" name="Picture 6" descr="DIVI464"/>
          <p:cNvPicPr/>
          <p:nvPr/>
        </p:nvPicPr>
        <p:blipFill>
          <a:blip r:embed="rId1"/>
          <a:stretch/>
        </p:blipFill>
        <p:spPr>
          <a:xfrm>
            <a:off x="3124080" y="1905120"/>
            <a:ext cx="4086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onflict in the Workplac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wages combined with demands for increased productivity led to increase in labor unrest in early 19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productivity f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on membership soar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Organizing Labor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F.L., led by Samuel Gompers was the largest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3: Women excluded from A.F.L. form Women's Trade Union Leag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5: Others excluded from A.F.L. form Industrial Workers of the Wor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dical organizations win spectacular strikes with small numb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rs of class warfare incr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Labor Union Membership,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1897–1920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70" name="Picture 4" descr="DIVI7233476"/>
          <p:cNvPicPr/>
          <p:nvPr/>
        </p:nvPicPr>
        <p:blipFill>
          <a:blip r:embed="rId1"/>
          <a:stretch/>
        </p:blipFill>
        <p:spPr>
          <a:xfrm>
            <a:off x="3193920" y="1905120"/>
            <a:ext cx="4043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Working with Worker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rs improved working conditions to avoid trou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Ford doubled wages, reduced work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 production incre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activity 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Changing Face of Industrialis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strial growth meant more goods at lower pr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ue of social problems from 189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century began on optimistic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moskeag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oskeag mills modeled paternalistic approach to labor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ny hired whole fami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included playgrounds, health care, home-buying plans, re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 New Urban Culture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s production required mass consum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ing middle class consumed new inventions and enter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roduction and Consump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0–1920: New advertising techniques created demand for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s increased U.S. standard of liv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lth increasingly concentrat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Living and Dying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in an Urban Na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2362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1920, the average life span increased substantially, infant mortality still 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ming cities took on modern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oning regulations, first in Los Angles,  separated industrial, commercial, residenti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Popular Pastim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dinary people achieved leisure for first time in American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ator pastimes included baseball,  football, movies, conce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pular music: Sousa marches, ragtime, blues, jazz, vaudev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reading included romance, detective, science-fiction novel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Experimentation in the Ar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ce: Isadora Dunc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nting: Ashcan School, post-Impressionis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try: T.S. Eliot and Ezra P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 Ferment of Discovery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nd Refor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95280" y="2286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cism, labor conflict rem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social and economic gains m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sm that social experiments can succe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Innovative Model T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nry Ford transformed auto industry with mass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 profit on each unit, gross of huge profit on high volume of s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08: Model T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6: Federal government began highway subsi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8" name="Content Placeholder 3" descr="ford_model_t_henry.jpeg"/>
          <p:cNvPicPr/>
          <p:nvPr/>
        </p:nvPicPr>
        <p:blipFill>
          <a:blip r:embed="rId1"/>
          <a:srcRect l="-16028" t="0" r="-16028" b="0"/>
          <a:stretch/>
        </p:blipFill>
        <p:spPr>
          <a:xfrm>
            <a:off x="11430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The Burgeoning Trust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end toward bigness in industry accelerated after 19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ers provided integrated control through interlocking directo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s controvers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denounced as threats to e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defended as more e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Business Consolidations (mergers), 1895–1905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Picture 6" descr="DIVI455"/>
          <p:cNvPicPr/>
          <p:nvPr/>
        </p:nvPicPr>
        <p:blipFill>
          <a:blip r:embed="rId1"/>
          <a:stretch/>
        </p:blipFill>
        <p:spPr>
          <a:xfrm>
            <a:off x="2971800" y="2133720"/>
            <a:ext cx="4368960" cy="44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Managing the Machin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ederick Taylor advocated “Scientific Management” to increase efficien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er welfare, morale suff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payche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anger, tediu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11: Triangle Shirtwaist Company fire demonstrated risks of factory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Society's Masses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ment expandsed rapidly to increase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, immigrants, blacks, Mexican Americans entered work fo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Better Times on the Farm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reduced by mail and parcel post deliveries to fa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ant farmers remained impoverish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farmers benefited from vast irrigation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20:42:58Z</dcterms:created>
  <dc:creator>Timothy Hall</dc:creator>
  <dc:description/>
  <cp:keywords/>
  <dc:language>en-US</dc:language>
  <cp:lastModifiedBy>Matthew Myers</cp:lastModifiedBy>
  <cp:lastPrinted>2012-09-11T10:32:31Z</cp:lastPrinted>
  <dcterms:modified xsi:type="dcterms:W3CDTF">2012-01-25T13:20:13Z</dcterms:modified>
  <cp:revision>16</cp:revision>
  <dc:subject/>
  <dc:title>CHAPTER 22 THE PROGRESSIVE ERA</dc:title>
</cp:coreProperties>
</file>